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2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4.gif" ContentType="image/gif"/>
  <Override PartName="/ppt/media/image22.jpeg" ContentType="image/jpeg"/>
  <Override PartName="/ppt/media/image1.jpeg" ContentType="image/jpeg"/>
  <Override PartName="/ppt/media/image14.jpeg" ContentType="image/jpeg"/>
  <Override PartName="/ppt/media/image30.gif" ContentType="image/gif"/>
  <Override PartName="/ppt/media/image10.gif" ContentType="image/gif"/>
  <Override PartName="/ppt/media/image8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5.gif" ContentType="image/gif"/>
  <Override PartName="/ppt/media/image7.jpeg" ContentType="image/jpeg"/>
  <Override PartName="/ppt/media/image15.gif" ContentType="image/gif"/>
  <Override PartName="/ppt/media/image28.jpeg" ContentType="image/jpeg"/>
  <Override PartName="/ppt/media/image6.png" ContentType="image/png"/>
  <Override PartName="/ppt/media/image1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5.jpeg" ContentType="image/jpeg"/>
  <Override PartName="/ppt/media/image26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D475-350B-4233-B61C-02A7D0D14D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C50B-0B1E-45AD-84B9-9C641833C938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E58C-B41B-4009-AFC4-8B2E0B5963C8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FAD-2AA1-4D1E-81D6-5A5C3094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499-8A0F-49CF-9E5F-847F7CB9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C87-7E55-4F60-85A5-097E8727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CE0-8DB7-411C-BEE2-2BD5DE76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829-09E2-4791-8781-0FB9E91E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263-4F7C-4031-89E8-744B8C78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4A3-3DA5-4661-9BFB-602B0ABD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8AA-7D98-4824-A81B-57B995B8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FA1-AAE9-4BDC-A684-E3866A59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4C8-B535-4715-85E2-42517AD4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036-F2FA-4940-B8DC-EE0CAB13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35A-1457-4854-A057-B09399C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0819-9B0E-4750-A268-A30AC66101F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5A92-77DC-4ABF-A36A-C8AFB785DD9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opekaspb.ru/?do=photo&amp;otherpixsize=1280&amp;q=50&amp;w=1&amp;id=023413200912116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6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571840"/>
            <a:ext cx="7772400" cy="207144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Добро пожаловать в «Дружную семейку» 4 «а» класса МБОУ «СОШ № 12»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5" name="Detskaya+pesenka+-+Pro+moyu+sem_yu.mp3" descr=""/>
          <p:cNvPicPr/>
          <p:nvPr/>
        </p:nvPicPr>
        <p:blipFill>
          <a:blip r:embed="rId7"/>
          <a:stretch/>
        </p:blipFill>
        <p:spPr>
          <a:xfrm>
            <a:off x="742968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88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187280" y="1268280"/>
            <a:ext cx="669636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ПРАВОСЛАВН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7" name="Picture 3" descr="C:\Users\владелец\Desktop\ОРКиСЭ\библия 2.jpeg"/>
          <p:cNvPicPr/>
          <p:nvPr/>
        </p:nvPicPr>
        <p:blipFill>
          <a:blip r:embed="rId1"/>
          <a:stretch/>
        </p:blipFill>
        <p:spPr>
          <a:xfrm>
            <a:off x="395280" y="1700280"/>
            <a:ext cx="361332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владелец\Desktop\ОРКиСЭ\православная семья.jpeg"/>
          <p:cNvPicPr/>
          <p:nvPr/>
        </p:nvPicPr>
        <p:blipFill>
          <a:blip r:embed="rId2"/>
          <a:stretch/>
        </p:blipFill>
        <p:spPr>
          <a:xfrm>
            <a:off x="4284720" y="1484280"/>
            <a:ext cx="4228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alibri"/>
              </a:rPr>
              <a:t>«Счастье  не птица, само не прилетит»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емья – это семь «Я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емья – это продолжение  нашего рода. Семья. Сообщество родных душ, оберег от измены, коварности, беды, одинокости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7960" y="1523880"/>
            <a:ext cx="40590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Его создают  те, у кого в семье царят мир, уважение и любовь 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33591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УДЕЙ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4" name="Picture 3" descr="C:\Users\владелец\Desktop\ОРКиСЭ\тора 2.jpeg"/>
          <p:cNvPicPr/>
          <p:nvPr/>
        </p:nvPicPr>
        <p:blipFill>
          <a:blip r:embed="rId1"/>
          <a:stretch/>
        </p:blipFill>
        <p:spPr>
          <a:xfrm>
            <a:off x="468360" y="2997360"/>
            <a:ext cx="424800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57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СЛАМ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7" name="Picture 2" descr="C:\Users\владелец\Desktop\ОРКиСЭ\коран.jpg"/>
          <p:cNvPicPr/>
          <p:nvPr/>
        </p:nvPicPr>
        <p:blipFill>
          <a:blip r:embed="rId1"/>
          <a:stretch/>
        </p:blipFill>
        <p:spPr>
          <a:xfrm>
            <a:off x="395280" y="1916280"/>
            <a:ext cx="3495600" cy="424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владелец\Desktop\ОРКиСЭ\исламская семья.jpeg"/>
          <p:cNvPicPr/>
          <p:nvPr/>
        </p:nvPicPr>
        <p:blipFill>
          <a:blip r:embed="rId2"/>
          <a:stretch/>
        </p:blipFill>
        <p:spPr>
          <a:xfrm>
            <a:off x="4427640" y="2060640"/>
            <a:ext cx="39304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БУДДИЙ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0" name="Picture 3" descr="C:\Users\владелец\Desktop\ОРКиСЭ\книга буддистов.jpeg"/>
          <p:cNvPicPr/>
          <p:nvPr/>
        </p:nvPicPr>
        <p:blipFill>
          <a:blip r:embed="rId1"/>
          <a:stretch/>
        </p:blipFill>
        <p:spPr>
          <a:xfrm>
            <a:off x="539640" y="2492280"/>
            <a:ext cx="2621160" cy="396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владелец\Desktop\ОРКиСЭ\буддистская семья.jpeg"/>
          <p:cNvPicPr/>
          <p:nvPr/>
        </p:nvPicPr>
        <p:blipFill>
          <a:blip r:embed="rId2"/>
          <a:stretch/>
        </p:blipFill>
        <p:spPr>
          <a:xfrm>
            <a:off x="3995640" y="1844640"/>
            <a:ext cx="3978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kk-KZ" sz="4400" spc="-1" strike="noStrike">
                <a:solidFill>
                  <a:srgbClr val="800000"/>
                </a:solidFill>
                <a:latin typeface="Calibri"/>
              </a:rPr>
              <a:t>Как появилась дружная семья.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kk-KZ" sz="2400" spc="-1" strike="noStrike">
                <a:solidFill>
                  <a:srgbClr val="800000"/>
                </a:solidFill>
                <a:latin typeface="Calibri"/>
              </a:rPr>
              <a:t>Давным –давно жила семья, в которой было 100 человек, но не было между ними согласия. Устали они от ссор и раздоров. И вот  решили члены семьи обратиться к мудрецу, чтобы он научил их жить дружно.Мудрец внимательно выслушал просителей и сказал: 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« Никто не научит вас жить счастливо, вы должны сами понять, что вам нужно для счастья, напишите, какой вы  хотите видеть свою семью».  Собралась эта огромная семья на семейный совет и решили они, чтобы  семья была дружной, надо относиться друг к другу, придерживаясь этих качеств: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(каких?)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07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Понимание             Любо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Уважение               Доверие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Доброта                 Забота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Помощь                  Дружб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5" name="Picture 5" descr="i?id=37266047-13"/>
          <p:cNvPicPr/>
          <p:nvPr/>
        </p:nvPicPr>
        <p:blipFill>
          <a:blip r:embed="rId1"/>
          <a:stretch/>
        </p:blipFill>
        <p:spPr>
          <a:xfrm>
            <a:off x="5364000" y="333360"/>
            <a:ext cx="35179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0" descr="flowerbi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468360" y="84708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ся семья вместе,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ак и душа на месте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87280" y="4941720"/>
            <a:ext cx="13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4140360" y="3213000"/>
            <a:ext cx="1584000" cy="15130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6012000" y="1628640"/>
            <a:ext cx="1726920" cy="1440000"/>
          </a:xfrm>
          <a:prstGeom prst="diamond">
            <a:avLst/>
          </a:prstGeom>
          <a:gradFill rotWithShape="0">
            <a:gsLst>
              <a:gs pos="0">
                <a:srgbClr val="ff9966"/>
              </a:gs>
              <a:gs pos="100000">
                <a:srgbClr val="764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4067280" y="1628640"/>
            <a:ext cx="1726920" cy="15112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2268360" y="1700280"/>
            <a:ext cx="1729080" cy="1511280"/>
          </a:xfrm>
          <a:prstGeom prst="diamond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ся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5003640" y="549360"/>
            <a:ext cx="1727280" cy="1439640"/>
          </a:xfrm>
          <a:prstGeom prst="diamond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ак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6948360" y="476280"/>
            <a:ext cx="1729080" cy="1511280"/>
          </a:xfrm>
          <a:prstGeom prst="diamond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месте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AutoShape 19"/>
          <p:cNvSpPr/>
          <p:nvPr/>
        </p:nvSpPr>
        <p:spPr>
          <a:xfrm>
            <a:off x="1258920" y="476280"/>
            <a:ext cx="1657440" cy="1440000"/>
          </a:xfrm>
          <a:prstGeom prst="diamond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а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AutoShape 20"/>
          <p:cNvSpPr/>
          <p:nvPr/>
        </p:nvSpPr>
        <p:spPr>
          <a:xfrm>
            <a:off x="3203640" y="404640"/>
            <a:ext cx="1584360" cy="1584360"/>
          </a:xfrm>
          <a:prstGeom prst="diamond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ест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21 -0.01364 C -0.11128 -0.00971 -0.10069 -0.01549 -0.10763 -0.00671 C -0.10972 -0.00393 -0.11267 -0.00347 -0.1151 -0.00162 C -0.11892 0.00485 -0.11788 0.00647 -0.12378 0.00878 C -0.1269 0.01202 -0.12934 0.01572 -0.13229 0.01919 C -0.13472 0.02913 -0.13177 0.01988 -0.13663 0.02774 C -0.14045 0.03399 -0.13958 0.03468 -0.14531 0.03815 C -0.14722 0.0467 -0.14913 0.043 -0.15277 0.05017 C -0.15625 0.05711 -0.15954 0.06659 -0.16475 0.06913 C -0.16684 0.07144 -0.16909 0.07376 -0.17118 0.07607 C -0.17222 0.07722 -0.17222 0.08 -0.17326 0.08115 C -0.17517 0.083 -0.17968 0.08462 -0.17968 0.08485 C -0.18576 0.09433 -0.18315 0.0904 -0.18732 0.09665 C -0.18836 0.09849 -0.19565 0.10289 -0.19791 0.10543 C -0.2019 0.1156 -0.20868 0.11399 -0.21406 0.12092 C -0.21406 0.12092 -0.21875 0.12832 -0.22048 0.13133 E">
                                      <p:cBhvr>
                                        <p:cTn id="22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68208E-006 C -0.00677 -0.00716 -0.00972 -0.01526 -0.01493 -0.02358 C -0.01927 -0.03052 -0.02448 -0.03537 -0.02986 -0.0393 C -0.0316 -0.04069 -0.03316 -0.04277 -0.0349 -0.04462 C -0.03611 -0.04601 -0.03663 -0.04878 -0.03819 -0.05017 C -0.0401 -0.05179 -0.04253 -0.05156 -0.04462 -0.05248 C -0.04792 -0.0541 -0.05469 -0.0578 -0.05469 -0.05757 C -0.06076 -0.06728 -0.06875 -0.0652 -0.07622 -0.07098 C -0.08785 -0.08 -0.07274 -0.07329 -0.09097 -0.08138 C -0.09722 -0.08369 -0.10938 -0.08901 -0.10938 -0.08901 C -0.12917 -0.08832 -0.14896 -0.08809 -0.16875 -0.0867 C -0.175 -0.08647 -0.1809 -0.08416 -0.18715 -0.08416 C -0.19045 -0.08416 -0.19688 -0.0867 -0.19688 -0.08647 E">
                                      <p:cBhvr>
                                        <p:cTn id="23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0.02983 C -0.09965 0.04763 -0.09583 0.06035 -0.10868 0.07445 C -0.11406 0.08856 -0.11753 0.10474 -0.13264 0.11538 C -0.13611 0.12509 -0.14097 0.13226 -0.15104 0.13942 C -0.15781 0.15376 -0.14792 0.13642 -0.16146 0.14867 C -0.16319 0.15029 -0.16267 0.1526 -0.16406 0.15422 C -0.17222 0.1644 -0.18351 0.17642 -0.19323 0.1859 C -0.19566 0.19075 -0.19583 0.19607 -0.19844 0.2007 C -0.19965 0.20301 -0.20226 0.2044 -0.20399 0.20624 C -0.21146 0.21572 -0.21371 0.22266 -0.225 0.23052 C -0.22674 0.23353 -0.22795 0.23676 -0.23021 0.23977 C -0.23351 0.24347 -0.24097 0.25087 -0.24097 0.2511 C -0.24184 0.25272 -0.24201 0.2548 -0.24358 0.25665 C -0.24635 0.26035 -0.25399 0.26752 -0.25399 0.26775 C -0.25486 0.26937 -0.25503 0.27168 -0.2566 0.2733 C -0.25799 0.27468 -0.26094 0.27538 -0.26198 0.277 C -0.26441 0.28 -0.26441 0.28671 -0.26719 0.28994 C -0.27552 0.29896 -0.275 0.29226 -0.275 0.29734 E">
                                      <p:cBhvr>
                                        <p:cTn id="235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5607E-007 C 0.00104 0.00162 0.00191 0.0037 0.00312 0.00532 C 0.00416 0.00694 0.00555 0.00763 0.00642 0.00902 C 0.01076 0.01572 0.01458 0.02405 0.01944 0.02983 C 0.02152 0.03191 0.02396 0.03306 0.02586 0.03538 C 0.0368 0.04786 0.02152 0.03514 0.0342 0.04462 C 0.03576 0.04786 0.03698 0.05133 0.03906 0.0541 C 0.04027 0.05572 0.04271 0.05618 0.04392 0.0578 C 0.05711 0.07514 0.04444 0.06428 0.05538 0.07283 C 0.0592 0.08647 0.05347 0.07075 0.06198 0.08208 C 0.06354 0.08439 0.06389 0.08717 0.0651 0.08971 C 0.06909 0.09757 0.0743 0.10381 0.07968 0.11029 C 0.08368 0.11954 0.08854 0.12092 0.09427 0.12902 C 0.1026 0.14035 0.1085 0.15029 0.11718 0.16069 C 0.12031 0.17064 0.12743 0.17711 0.13038 0.18682 C 0.13142 0.19052 0.13246 0.19445 0.1335 0.19815 C 0.13402 0.2 0.13524 0.2037 0.13524 0.20393 C 0.13767 0.23353 0.14184 0.26335 0.14184 0.29364 E">
                                      <p:cBhvr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23699E-006 C -0.00417 0.00578 -0.00521 0.0118 -0.00955 0.01827 C -0.01476 0.04116 -0.03542 0.0733 -0.05157 0.08208 C -0.06823 0.10104 -0.08698 0.11168 -0.10469 0.1274 C -0.1316 0.15075 -0.11736 0.14474 -0.13282 0.15029 C -0.13785 0.16093 -0.14063 0.1563 -0.14688 0.16393 C -0.15643 0.17573 -0.16476 0.18937 -0.17483 0.20047 C -0.17813 0.21318 -0.17414 0.20255 -0.18421 0.2118 C -0.18611 0.21364 -0.18716 0.21688 -0.18907 0.2185 C -0.1948 0.22382 -0.20313 0.22844 -0.20938 0.23237 C -0.2158 0.24 -0.22032 0.2444 -0.22796 0.24833 C -0.23039 0.2585 -0.23525 0.25966 -0.24046 0.26636 C -0.25313 0.28278 -0.24497 0.27792 -0.25469 0.28232 C -0.26129 0.29758 -0.27431 0.30659 -0.28594 0.31191 C -0.29341 0.31954 -0.30035 0.32532 -0.30921 0.32786 C -0.3132 0.33156 -0.31563 0.33434 -0.32014 0.33711 C -0.32483 0.33989 -0.33004 0.33989 -0.33421 0.34382 C -0.3441 0.35353 -0.35382 0.36393 -0.36389 0.37341 C -0.36563 0.38382 -0.3698 0.3933 -0.37778 0.38729 E">
                                      <p:cBhvr>
                                        <p:cTn id="24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6.5896E-006 C -0.01459 0.00808 -0.02084 0.02427 -0.03021 0.04022 C -0.04757 0.07005 -0.06563 0.10011 -0.08577 0.12693 C -0.08889 0.13965 -0.08472 0.1267 -0.09358 0.13965 C -0.09757 0.14566 -0.10104 0.15236 -0.10469 0.1586 C -0.1059 0.16069 -0.10816 0.16115 -0.10955 0.16277 C -0.13351 0.19074 -0.10486 0.15884 -0.12222 0.18196 C -0.13004 0.19236 -0.13611 0.19884 -0.14288 0.21155 C -0.14653 0.22589 -0.14149 0.20993 -0.14913 0.22196 C -0.15573 0.23213 -0.15226 0.23606 -0.16024 0.24323 C -0.16563 0.25386 -0.17379 0.27097 -0.1809 0.27907 C -0.18281 0.28115 -0.18542 0.28161 -0.18733 0.28346 C -0.18906 0.28508 -0.19045 0.28762 -0.19202 0.2897 C -0.19479 0.30057 -0.19167 0.29248 -0.2 0.30242 C -0.21198 0.31675 -0.21545 0.32207 -0.22847 0.3341 C -0.23524 0.34034 -0.24184 0.34612 -0.24913 0.35097 C -0.25434 0.35444 -0.25834 0.36022 -0.26354 0.36369 C -0.28577 0.37826 -0.32656 0.39329 -0.3507 0.39329 E">
                                      <p:cBhvr>
                                        <p:cTn id="24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2196 C 0.10364 0.00555 0.12066 0.02012 0.13524 0.03931 C 0.1533 0.06313 0.16944 0.08925 0.1875 0.1133 C 0.18958 0.11607 0.19219 0.11862 0.19392 0.12185 C 0.19653 0.12671 0.19878 0.13203 0.20191 0.13665 C 0.20417 0.13989 0.20764 0.14174 0.20972 0.14521 C 0.21285 0.15029 0.21476 0.15677 0.21771 0.16208 C 0.22274 0.17087 0.23368 0.18729 0.23368 0.18729 C 0.24496 0.22867 0.22986 0.17781 0.24792 0.22336 C 0.26371 0.26313 0.27639 0.32324 0.3066 0.35006 C 0.31024 0.36024 0.31528 0.36717 0.32083 0.3755 C 0.32604 0.38336 0.33212 0.39052 0.3368 0.39885 C 0.33958 0.4037 0.34149 0.40925 0.34479 0.41365 C 0.35156 0.42266 0.35295 0.42128 0.36059 0.42844 C 0.36667 0.43399 0.36962 0.44024 0.37639 0.44324 C 0.38333 0.45642 0.39184 0.46613 0.40035 0.477 C 0.40399 0.49156 0.41614 0.49711 0.42083 0.51076 C 0.42222 0.51492 0.42309 0.51931 0.42413 0.52347 C 0.42465 0.52555 0.42569 0.52995 0.42569 0.52995 C 0.42587 0.53156 0.42726 0.54914 0.42882 0.55307 C 0.42934 0.55422 0.42882 0.55029 0.42882 0.54891 E">
                                      <p:cBhvr>
                                        <p:cTn id="25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3 -0.037 C 0.09826 -0.02775 0.10052 -0.01573 0.10746 -0.00948 C 0.12049 0.01988 0.13125 0.03421 0.15035 0.05618 C 0.15434 0.0608 0.15608 0.0682 0.1599 0.07306 C 0.16406 0.07815 0.16996 0.08069 0.17413 0.08578 C 0.1816 0.09502 0.18611 0.10797 0.19323 0.11745 C 0.21198 0.14242 0.19722 0.11884 0.21215 0.14057 C 0.21753 0.14843 0.22326 0.1556 0.22812 0.16393 C 0.23003 0.16716 0.23073 0.17156 0.23281 0.17456 C 0.23715 0.18127 0.24201 0.18797 0.24722 0.19352 C 0.24983 0.1963 0.25278 0.19861 0.25503 0.20184 C 0.28871 0.25132 0.23837 0.18543 0.27257 0.22728 C 0.29184 0.25086 0.31354 0.27121 0.33281 0.29502 C 0.36371 0.33294 0.3309 0.29202 0.34878 0.32023 C 0.35208 0.32554 0.35625 0.33017 0.3599 0.33502 C 0.36198 0.3378 0.36615 0.34358 0.36615 0.34358 C 0.36979 0.35791 0.38055 0.37109 0.38837 0.38173 C 0.39028 0.38427 0.39184 0.38705 0.39323 0.39005 C 0.39566 0.39537 0.39948 0.40693 0.39948 0.40693 C 0.40104 0.41549 0.40243 0.4208 0.4059 0.4282 C 0.40972 0.45179 0.41059 0.47815 0.41858 0.50011 C 0.42066 0.5126 0.42187 0.52601 0.425 0.53803 C 0.425 0.53826 0.42812 0.55907 0.42812 0.55075 E">
                                      <p:cBhvr>
                                        <p:cTn id="25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2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2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Картинка 10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519360"/>
            <a:ext cx="3997440" cy="2998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ама и папа для меня самые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Я доверяю свои тайны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Я люблю  бабушку за то…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вою семью я считаю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Родным я хочу пожелать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У меня есть мама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У меня есть папа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У меня есть дедушка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У меня есть бабушка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А у них есть я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Что это?        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8" name="Picture 7" descr="i?id=106331305-13"/>
          <p:cNvPicPr/>
          <p:nvPr/>
        </p:nvPicPr>
        <p:blipFill>
          <a:blip r:embed="rId1"/>
          <a:stretch/>
        </p:blipFill>
        <p:spPr>
          <a:xfrm>
            <a:off x="5003640" y="3645000"/>
            <a:ext cx="35895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28800" y="500040"/>
            <a:ext cx="77580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емья – это счастье, любовь и удача,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емья – это летом поездки на дачу.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емья – это праздник, семейные даты,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одарки, покупки, приятные траты.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емья – это труд, друг о друге забота,      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Семья – это много домашней работы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                    Семья – это важно!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                   Семья – это сложно!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                Но счастливо жить одному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невозможно!  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оговорить с родителями о ценностях своей семьи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одобрать пословицы о семье, можно разных   народов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Вопросы на странице 75 учебни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Написать сочинение о своей семье ( по желанию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C:\Users\лора\Desktop\ольге\анимация\ca50dbacfda71b6727d9ab5e16abc778.gif"/>
          <p:cNvPicPr/>
          <p:nvPr/>
        </p:nvPicPr>
        <p:blipFill>
          <a:blip r:embed="rId1"/>
          <a:stretch/>
        </p:blipFill>
        <p:spPr>
          <a:xfrm>
            <a:off x="395280" y="2060640"/>
            <a:ext cx="8415360" cy="446868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 rot="21243000">
            <a:off x="1332000" y="90792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b2b2b2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Мира и счастья вашей семье!</a:t>
            </a:r>
            <a:endParaRPr b="1" lang="en-US" sz="1800" spc="1" strike="noStrike">
              <a:ln w="28440">
                <a:solidFill>
                  <a:srgbClr val="b2b2b2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125" name="Picture 7" descr="49"/>
          <p:cNvPicPr/>
          <p:nvPr/>
        </p:nvPicPr>
        <p:blipFill>
          <a:blip r:embed="rId2"/>
          <a:stretch/>
        </p:blipFill>
        <p:spPr>
          <a:xfrm>
            <a:off x="1332000" y="4724280"/>
            <a:ext cx="123804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49"/>
          <p:cNvPicPr/>
          <p:nvPr/>
        </p:nvPicPr>
        <p:blipFill>
          <a:blip r:embed="rId3"/>
          <a:stretch/>
        </p:blipFill>
        <p:spPr>
          <a:xfrm>
            <a:off x="2700360" y="4724280"/>
            <a:ext cx="1238400" cy="129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49"/>
          <p:cNvPicPr/>
          <p:nvPr/>
        </p:nvPicPr>
        <p:blipFill>
          <a:blip r:embed="rId4"/>
          <a:stretch/>
        </p:blipFill>
        <p:spPr>
          <a:xfrm>
            <a:off x="4140360" y="4724280"/>
            <a:ext cx="1238040" cy="129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49"/>
          <p:cNvPicPr/>
          <p:nvPr/>
        </p:nvPicPr>
        <p:blipFill>
          <a:blip r:embed="rId5"/>
          <a:stretch/>
        </p:blipFill>
        <p:spPr>
          <a:xfrm>
            <a:off x="5508720" y="4653000"/>
            <a:ext cx="123804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49"/>
          <p:cNvPicPr/>
          <p:nvPr/>
        </p:nvPicPr>
        <p:blipFill>
          <a:blip r:embed="rId6"/>
          <a:stretch/>
        </p:blipFill>
        <p:spPr>
          <a:xfrm>
            <a:off x="6877080" y="46530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120024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емья.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емейные ценности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Улыбнись новому дню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02D3-9B5B-455E-B35D-65D96C7BF3E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3BFC-5636-4123-A7CC-D1B9350884F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0" name="Picture 12" descr="023413200912113"/>
          <p:cNvPicPr/>
          <p:nvPr/>
        </p:nvPicPr>
        <p:blipFill>
          <a:blip r:embed="rId1"/>
          <a:stretch/>
        </p:blipFill>
        <p:spPr>
          <a:xfrm>
            <a:off x="539640" y="2133720"/>
            <a:ext cx="5516640" cy="4136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48464139_789_thumb"/>
          <p:cNvPicPr/>
          <p:nvPr/>
        </p:nvPicPr>
        <p:blipFill>
          <a:blip r:embed="rId2"/>
          <a:stretch/>
        </p:blipFill>
        <p:spPr>
          <a:xfrm>
            <a:off x="6156360" y="836640"/>
            <a:ext cx="2512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3920" y="274680"/>
            <a:ext cx="747252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«Семья – это группа родственников, живущих вместе»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С.И.Ожегов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3" name="Picture 2" descr="http://img-fotki.yandex.ru/get/20/mobolsem.1/0_b8e0_566c979a_XL"/>
          <p:cNvPicPr/>
          <p:nvPr/>
        </p:nvPicPr>
        <p:blipFill>
          <a:blip r:embed="rId1"/>
          <a:stretch/>
        </p:blipFill>
        <p:spPr>
          <a:xfrm>
            <a:off x="3365640" y="2451240"/>
            <a:ext cx="4035240" cy="416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39640" y="2133720"/>
            <a:ext cx="806472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емья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 -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  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группа людей, состоящая из родителей, детей, внуков и ближних родственников, живущих вместе.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ловарь Д.Н. Ушакова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2484360" y="476280"/>
            <a:ext cx="4321080" cy="1225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507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3200" spc="1" strike="noStrike">
              <a:ln w="507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4" descr="с2"/>
          <p:cNvPicPr/>
          <p:nvPr/>
        </p:nvPicPr>
        <p:blipFill>
          <a:blip r:embed="rId3"/>
          <a:stretch/>
        </p:blipFill>
        <p:spPr>
          <a:xfrm>
            <a:off x="6588000" y="5157720"/>
            <a:ext cx="20178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10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family4"/>
          <p:cNvPicPr/>
          <p:nvPr/>
        </p:nvPicPr>
        <p:blipFill>
          <a:blip r:embed="rId1"/>
          <a:stretch/>
        </p:blipFill>
        <p:spPr>
          <a:xfrm>
            <a:off x="2411280" y="2421000"/>
            <a:ext cx="3932280" cy="414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840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755640" y="620640"/>
            <a:ext cx="7416720" cy="2376720"/>
          </a:xfrm>
          <a:prstGeom prst="rect">
            <a:avLst/>
          </a:prstGeom>
        </p:spPr>
        <p:txBody>
          <a:bodyPr wrap="none" lIns="90000" rIns="90000" tIns="46800" bIns="46800" anchor="t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 МАЯ  –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НАРОДНЫЙ ДЕНЬ СЕМЬ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0960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324000" y="260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Я думаю, что когда в семье есть взаимопонимание, трудолюбие, доброта, а самое главное – любовь, то это самая настоящая семья. Семья – это когда родители помогают детям, а когда их дети вырастают, то они помогают родителям. И это называется семья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отегова Василин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08000" y="5018040"/>
            <a:ext cx="8496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Семья – это группа людей, которые соединены невидимыми родственными узелками. В семье живет всегда счастье, но и иногда бывают и трудные моменты, и тогда на помощь приходит семья. Семью не возможно разлучить. У меня счастливая семья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упрякова Лиза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В давние времена жила одна семья, и в ней царили любовь и согласие. Молва об этом долетела до правителя тех мест, и он спросил у главы семьи: «Как вам удаётся жить, никогда не ссорясь, не обижая друг друга?» Старец взял бумагу и написал на ней что – то. Правитель посмотрел и удивился, на листе было написано сто раз одно и тоже слово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Какое это слово?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3:33:12Z</dcterms:created>
  <dc:creator>User</dc:creator>
  <dc:description>http://aida.ucoz.ru</dc:description>
  <dc:language>en-US</dc:language>
  <cp:lastModifiedBy>1 1</cp:lastModifiedBy>
  <dcterms:modified xsi:type="dcterms:W3CDTF">2022-01-16T12:11:28Z</dcterms:modified>
  <cp:revision>20</cp:revision>
  <dc:subject/>
  <dc:title>Семья.  Семейные ценности</dc:title>
</cp:coreProperties>
</file>